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433D-6A57-4B8A-A86F-36E87949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9810-E2D7-47FF-993F-B0E8A043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D1F2-DCF2-4C25-ADAD-CD972017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0A6C-F9E5-48AF-B713-051EF2F7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90C6-0857-4BAF-80A3-791BCCBB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8A45-75A9-4667-8E96-79258876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DFCB-02E0-4F48-8FED-FF585603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227B-5DE3-4E4F-989D-5F2F1B79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F505-C9E2-4690-8AD4-834F54DF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3330-ABD3-4476-BFF9-4622F6B9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00C1-2FB6-498F-8B6A-B38E5923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33F4-0720-4837-BD3E-35AC887E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A6E1-5DCB-44FA-B167-B815FD69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3D96-F27C-4A50-8413-9164C4FF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BB06-6001-4360-85E3-B3C5D914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C26E-34B8-41EC-AF28-BD0C060B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9AD1-EA3A-4743-BCED-7F6F4B3C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C2264-D1FD-4296-9610-A4FC5109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B11BB-159B-47FD-853B-2B065548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6E434-5C3A-4D1D-AAE4-F38943C3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3F63C-59E1-41E0-B9B9-47AA52B1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FAB7D-E4A2-4167-83F3-D9235463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5FF-3628-45F9-9311-A013341F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E7D4B-FD0D-49E7-A81A-F530C47D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55C29-2034-4927-A62E-CB99588E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B5D4E-0FB4-44B3-96C7-2C589F8C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FC692-04EF-44FE-9214-AF4C3EB9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048D2-12A9-4575-914C-3E0731D3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369F1-D11E-489E-8104-BFA11A83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E2C15-B0E8-4C2A-B441-C622C0C0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C7E9A-0348-4CC7-9CFF-EEFAF2B1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9D97D-910C-4641-A98E-3013D01C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F9983-CE72-4564-8EAC-197263DE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436-490B-4372-9D36-4332CE91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450DA-E146-417A-AF23-D8EC4F2B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37FA3-C546-42AB-9015-E34D2F3B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E1CB7-E3D6-4C41-88E6-CCB46CDD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84DD0-C8E3-4ACE-9342-04A8B562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9E702-2A14-4BFE-8223-9D49772C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C59D2-13AC-44C7-86DB-CF2DD6B4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AA050-A51E-4091-B7A7-D7F7253D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CC9A6-A1B8-48E9-9CF9-2EBE28B5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B4E19-71DD-46BF-8BE7-7A9A8BFF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131F1-0008-462B-8198-047B517F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F8A9-FA70-46A2-8109-D29D3AFA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B5CD0-BACB-4227-8987-DA7855F4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C7C55-CBE3-4B0A-B8CF-2ADE09C0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3C3A5-6B8E-4009-9BD5-CF465DEF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A59B9-4CBB-4B76-9BDB-4275C32E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5E727-AFDF-4023-8417-C908E121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96B74-1A01-4D05-A669-54E85686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2314C-B347-4ACF-9A8F-9F784557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7A6DB-9A49-447D-9793-004864C8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F154A-72A9-4C56-A7E1-1A19AD8E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D9D7C-4279-4445-A795-EC762CD0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8DA3-D36C-41A3-8B44-5832E143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613B4-1107-45A6-9B6A-B9A5B638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0CBBD-B428-4A74-A051-67AFCF68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5398D-0E76-4EB4-9198-5C6583DA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78682-90A3-4C01-A9ED-20EBF261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D2DF8-C7AA-43BD-8114-8EA61D1B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595A0-46EA-4210-A6A8-8E6CF536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DF1FF-B6A9-4977-835C-C96FAA5C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26F15-4A5A-42FC-A53A-4DE8A18A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5752B-1125-414E-A9AC-F3153005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56236-26AC-4314-B8E1-FA8C5E89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5593-7A2F-4F89-B6FB-146EB429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1A038-A9C9-4C58-9031-EC39E6F2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552E1-0366-4AC2-B988-FD965259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09597-50E8-4F9B-9611-0370A81A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8CB15-EF81-4A77-9230-C9153100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9C87F-E938-4259-AEEE-4C80A2F2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7AD8B-507E-430D-A7E3-CFC76ABD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FA29E-9F71-418B-9647-A67F9107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3560E-707B-4BAA-B132-55B03913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4B749-E74A-4660-8055-C36A147A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D6039-B2A4-4745-BA61-4770DF6C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35E-9E3E-4BE2-9797-F9027F94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EAEB2-228F-4F17-8110-3E404DD3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A5F2D-375F-4A33-88A9-28D99FAA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B1EA9-4017-4740-8FF2-0FD110EC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D1203-6C25-43E6-9AEF-D761CBF2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B0FB9-88A4-4240-9E21-ABA2B5DC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B4FA7-630F-4AEF-9781-55B64930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5E215-EB87-4EB1-BA77-903C2E1A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364D2-CB1E-4230-B86B-79ADE41D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0282F-CAF0-495B-AED3-732AAABE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85FDE-5F60-43EC-8D47-F39594EC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40D3-0154-4192-8242-59C8B3E2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406B6-1FB5-45F3-85CF-63094002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F93A1-DA63-4935-B2FD-216E75B7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DAD2E-5A07-4CE1-85AF-A43C29CB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79944-1FDC-405F-857B-23D9C759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8963E-FC4A-40E1-8F46-ADD67B3F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989A8-1DCB-4DAD-BEBF-AE4A699D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55D5C-EF11-4342-83A0-7D0E59FB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未知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6920"/>
              <a:chOff x="5600880" y="5897520"/>
              <a:chExt cx="1256760" cy="82692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16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20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未知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未知"/>
              <p:cNvSpPr/>
              <p:nvPr/>
            </p:nvSpPr>
            <p:spPr>
              <a:xfrm>
                <a:off x="5867280" y="661968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未知"/>
              <p:cNvSpPr/>
              <p:nvPr/>
            </p:nvSpPr>
            <p:spPr>
              <a:xfrm>
                <a:off x="5600880" y="6200640"/>
                <a:ext cx="14076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未知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>
                <a:off x="6410160" y="5906880"/>
                <a:ext cx="151920" cy="478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240"/>
                <a:ext cx="132840" cy="84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3960"/>
              <a:ext cx="2581200" cy="1084320"/>
              <a:chOff x="2819520" y="576396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720" y="6244920"/>
                <a:ext cx="1012680" cy="59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08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600" cy="474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480" y="6345000"/>
                <a:ext cx="704520" cy="4096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480" y="6357600"/>
                <a:ext cx="655560" cy="381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920" y="6391080"/>
                <a:ext cx="485640" cy="3049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840" y="643860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3760"/>
                <a:ext cx="142920" cy="95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03640" y="606708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3400560" y="6114960"/>
                <a:ext cx="1415880" cy="73332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未知"/>
              <p:cNvSpPr/>
              <p:nvPr/>
            </p:nvSpPr>
            <p:spPr>
              <a:xfrm>
                <a:off x="3305160" y="6076800"/>
                <a:ext cx="646200" cy="77148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未知"/>
              <p:cNvSpPr/>
              <p:nvPr/>
            </p:nvSpPr>
            <p:spPr>
              <a:xfrm>
                <a:off x="4741920" y="641952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未知"/>
              <p:cNvSpPr/>
              <p:nvPr/>
            </p:nvSpPr>
            <p:spPr>
              <a:xfrm>
                <a:off x="3283200" y="5849640"/>
                <a:ext cx="1325520" cy="2383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未知"/>
              <p:cNvSpPr/>
              <p:nvPr/>
            </p:nvSpPr>
            <p:spPr>
              <a:xfrm>
                <a:off x="2963880" y="611640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未知"/>
              <p:cNvSpPr/>
              <p:nvPr/>
            </p:nvSpPr>
            <p:spPr>
              <a:xfrm>
                <a:off x="4684680" y="595440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未知"/>
              <p:cNvSpPr/>
              <p:nvPr/>
            </p:nvSpPr>
            <p:spPr>
              <a:xfrm>
                <a:off x="3679920" y="5763960"/>
                <a:ext cx="171144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未知"/>
              <p:cNvSpPr/>
              <p:nvPr/>
            </p:nvSpPr>
            <p:spPr>
              <a:xfrm>
                <a:off x="5245200" y="647676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未知"/>
              <p:cNvSpPr/>
              <p:nvPr/>
            </p:nvSpPr>
            <p:spPr>
              <a:xfrm>
                <a:off x="2819520" y="583056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440" y="5333760"/>
              <a:ext cx="2144160" cy="1303200"/>
              <a:chOff x="6553440" y="5333760"/>
              <a:chExt cx="2144160" cy="1303200"/>
            </a:xfrm>
          </p:grpSpPr>
          <p:sp>
            <p:nvSpPr>
              <p:cNvPr id="35" name="未知"/>
              <p:cNvSpPr/>
              <p:nvPr/>
            </p:nvSpPr>
            <p:spPr>
              <a:xfrm>
                <a:off x="6667560" y="5400360"/>
                <a:ext cx="1906200" cy="11606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未知"/>
              <p:cNvSpPr/>
              <p:nvPr/>
            </p:nvSpPr>
            <p:spPr>
              <a:xfrm>
                <a:off x="6553440" y="534312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未知"/>
              <p:cNvSpPr/>
              <p:nvPr/>
            </p:nvSpPr>
            <p:spPr>
              <a:xfrm>
                <a:off x="7607160" y="533376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未知"/>
              <p:cNvSpPr/>
              <p:nvPr/>
            </p:nvSpPr>
            <p:spPr>
              <a:xfrm>
                <a:off x="8327880" y="636084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未知"/>
              <p:cNvSpPr/>
              <p:nvPr/>
            </p:nvSpPr>
            <p:spPr>
              <a:xfrm>
                <a:off x="7151400" y="646560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未知"/>
              <p:cNvSpPr/>
              <p:nvPr/>
            </p:nvSpPr>
            <p:spPr>
              <a:xfrm>
                <a:off x="8470800" y="580032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未知"/>
              <p:cNvSpPr/>
              <p:nvPr/>
            </p:nvSpPr>
            <p:spPr>
              <a:xfrm>
                <a:off x="8034120" y="575280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未知"/>
              <p:cNvSpPr/>
              <p:nvPr/>
            </p:nvSpPr>
            <p:spPr>
              <a:xfrm>
                <a:off x="7056360" y="5638680"/>
                <a:ext cx="1137960" cy="6840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未知"/>
              <p:cNvSpPr/>
              <p:nvPr/>
            </p:nvSpPr>
            <p:spPr>
              <a:xfrm>
                <a:off x="6904080" y="557172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未知"/>
              <p:cNvSpPr/>
              <p:nvPr/>
            </p:nvSpPr>
            <p:spPr>
              <a:xfrm>
                <a:off x="7245360" y="5543280"/>
                <a:ext cx="57888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未知"/>
              <p:cNvSpPr/>
              <p:nvPr/>
            </p:nvSpPr>
            <p:spPr>
              <a:xfrm>
                <a:off x="7084800" y="56480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560" y="5727600"/>
                <a:ext cx="822240" cy="506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32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080" y="5794200"/>
                <a:ext cx="612720" cy="3697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480"/>
                <a:ext cx="472680" cy="2811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160" y="587016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2240" y="4800600"/>
              <a:ext cx="674640" cy="408960"/>
              <a:chOff x="8382240" y="4800600"/>
              <a:chExt cx="674640" cy="408960"/>
            </a:xfrm>
          </p:grpSpPr>
          <p:sp>
            <p:nvSpPr>
              <p:cNvPr id="53" name="未知"/>
              <p:cNvSpPr/>
              <p:nvPr/>
            </p:nvSpPr>
            <p:spPr>
              <a:xfrm>
                <a:off x="8382240" y="5057280"/>
                <a:ext cx="608040" cy="1522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未知"/>
              <p:cNvSpPr/>
              <p:nvPr/>
            </p:nvSpPr>
            <p:spPr>
              <a:xfrm>
                <a:off x="8437680" y="4800600"/>
                <a:ext cx="409680" cy="85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未知"/>
              <p:cNvSpPr/>
              <p:nvPr/>
            </p:nvSpPr>
            <p:spPr>
              <a:xfrm>
                <a:off x="8961840" y="4866840"/>
                <a:ext cx="95040" cy="2473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未知"/>
              <p:cNvSpPr/>
              <p:nvPr/>
            </p:nvSpPr>
            <p:spPr>
              <a:xfrm>
                <a:off x="8533080" y="5152680"/>
                <a:ext cx="30492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未知"/>
              <p:cNvSpPr/>
              <p:nvPr/>
            </p:nvSpPr>
            <p:spPr>
              <a:xfrm>
                <a:off x="8420400" y="4828680"/>
                <a:ext cx="255600" cy="2952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>
                <a:off x="8714160" y="4828680"/>
                <a:ext cx="295200" cy="3330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未知"/>
              <p:cNvSpPr/>
              <p:nvPr/>
            </p:nvSpPr>
            <p:spPr>
              <a:xfrm>
                <a:off x="8485560" y="4854240"/>
                <a:ext cx="474480" cy="29484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080"/>
                <a:ext cx="360360" cy="209160"/>
                <a:chOff x="8542440" y="4897080"/>
                <a:chExt cx="360360" cy="20916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080"/>
                  <a:ext cx="360360" cy="20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040"/>
                  <a:ext cx="289080" cy="16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4880"/>
                  <a:ext cx="198720" cy="12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840" y="4960080"/>
                  <a:ext cx="115560" cy="7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97C9-ADD3-482D-AA2F-EB5A43DCF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未知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6920"/>
              <a:chOff x="5600880" y="5897520"/>
              <a:chExt cx="1256760" cy="82692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16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20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未知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未知"/>
              <p:cNvSpPr/>
              <p:nvPr/>
            </p:nvSpPr>
            <p:spPr>
              <a:xfrm>
                <a:off x="5867280" y="661968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未知"/>
              <p:cNvSpPr/>
              <p:nvPr/>
            </p:nvSpPr>
            <p:spPr>
              <a:xfrm>
                <a:off x="5600880" y="6200640"/>
                <a:ext cx="14076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未知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未知"/>
              <p:cNvSpPr/>
              <p:nvPr/>
            </p:nvSpPr>
            <p:spPr>
              <a:xfrm>
                <a:off x="6410160" y="5906880"/>
                <a:ext cx="151920" cy="478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240"/>
                <a:ext cx="132840" cy="84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3960"/>
              <a:ext cx="2581200" cy="1084320"/>
              <a:chOff x="2819520" y="576396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720" y="6244920"/>
                <a:ext cx="1012680" cy="59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08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600" cy="474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480" y="6345000"/>
                <a:ext cx="704520" cy="4096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480" y="6357600"/>
                <a:ext cx="655560" cy="381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920" y="6391080"/>
                <a:ext cx="485640" cy="3049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840" y="643860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3760"/>
                <a:ext cx="142920" cy="95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>
                <a:off x="4103640" y="606708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>
                <a:off x="3400560" y="6114960"/>
                <a:ext cx="1415880" cy="73332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>
                <a:off x="3305160" y="6076800"/>
                <a:ext cx="646200" cy="77148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>
                <a:off x="4741920" y="641952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>
                <a:off x="3283200" y="5849640"/>
                <a:ext cx="1325520" cy="2383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>
                <a:off x="2963880" y="611640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未知"/>
              <p:cNvSpPr/>
              <p:nvPr/>
            </p:nvSpPr>
            <p:spPr>
              <a:xfrm>
                <a:off x="4684680" y="595440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未知"/>
              <p:cNvSpPr/>
              <p:nvPr/>
            </p:nvSpPr>
            <p:spPr>
              <a:xfrm>
                <a:off x="3679920" y="5763960"/>
                <a:ext cx="171144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未知"/>
              <p:cNvSpPr/>
              <p:nvPr/>
            </p:nvSpPr>
            <p:spPr>
              <a:xfrm>
                <a:off x="5245200" y="647676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未知"/>
              <p:cNvSpPr/>
              <p:nvPr/>
            </p:nvSpPr>
            <p:spPr>
              <a:xfrm>
                <a:off x="2819520" y="583056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440" y="5333760"/>
              <a:ext cx="2144160" cy="1303200"/>
              <a:chOff x="6553440" y="5333760"/>
              <a:chExt cx="2144160" cy="1303200"/>
            </a:xfrm>
          </p:grpSpPr>
          <p:sp>
            <p:nvSpPr>
              <p:cNvPr id="140" name="未知"/>
              <p:cNvSpPr/>
              <p:nvPr/>
            </p:nvSpPr>
            <p:spPr>
              <a:xfrm>
                <a:off x="6667560" y="5400360"/>
                <a:ext cx="1906200" cy="11606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>
                <a:off x="6553440" y="534312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>
                <a:off x="7607160" y="533376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>
                <a:off x="8327880" y="636084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>
                <a:off x="7151400" y="646560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>
                <a:off x="8470800" y="580032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>
                <a:off x="8034120" y="575280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>
                <a:off x="7056360" y="5638680"/>
                <a:ext cx="1137960" cy="6840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>
                <a:off x="6904080" y="557172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未知"/>
              <p:cNvSpPr/>
              <p:nvPr/>
            </p:nvSpPr>
            <p:spPr>
              <a:xfrm>
                <a:off x="7245360" y="5543280"/>
                <a:ext cx="57888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>
                <a:off x="7084800" y="56480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560" y="5727600"/>
                <a:ext cx="822240" cy="506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32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080" y="5794200"/>
                <a:ext cx="612720" cy="3697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480"/>
                <a:ext cx="472680" cy="2811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160" y="587016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2240" y="4800600"/>
              <a:ext cx="674640" cy="408960"/>
              <a:chOff x="8382240" y="4800600"/>
              <a:chExt cx="674640" cy="408960"/>
            </a:xfrm>
          </p:grpSpPr>
          <p:sp>
            <p:nvSpPr>
              <p:cNvPr id="158" name="未知"/>
              <p:cNvSpPr/>
              <p:nvPr/>
            </p:nvSpPr>
            <p:spPr>
              <a:xfrm>
                <a:off x="8382240" y="5057280"/>
                <a:ext cx="608040" cy="1522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>
                <a:off x="8437680" y="4800600"/>
                <a:ext cx="409680" cy="85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未知"/>
              <p:cNvSpPr/>
              <p:nvPr/>
            </p:nvSpPr>
            <p:spPr>
              <a:xfrm>
                <a:off x="8961840" y="4866840"/>
                <a:ext cx="95040" cy="2473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未知"/>
              <p:cNvSpPr/>
              <p:nvPr/>
            </p:nvSpPr>
            <p:spPr>
              <a:xfrm>
                <a:off x="8533080" y="5152680"/>
                <a:ext cx="30492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未知"/>
              <p:cNvSpPr/>
              <p:nvPr/>
            </p:nvSpPr>
            <p:spPr>
              <a:xfrm>
                <a:off x="8420400" y="4828680"/>
                <a:ext cx="255600" cy="2952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未知"/>
              <p:cNvSpPr/>
              <p:nvPr/>
            </p:nvSpPr>
            <p:spPr>
              <a:xfrm>
                <a:off x="8714160" y="4828680"/>
                <a:ext cx="295200" cy="3330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未知"/>
              <p:cNvSpPr/>
              <p:nvPr/>
            </p:nvSpPr>
            <p:spPr>
              <a:xfrm>
                <a:off x="8485560" y="4854240"/>
                <a:ext cx="474480" cy="29484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080"/>
                <a:ext cx="360360" cy="209160"/>
                <a:chOff x="8542440" y="4897080"/>
                <a:chExt cx="360360" cy="2091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080"/>
                  <a:ext cx="360360" cy="20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040"/>
                  <a:ext cx="289080" cy="16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4880"/>
                  <a:ext cx="198720" cy="12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840" y="4960080"/>
                  <a:ext cx="115560" cy="7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C78C-DA65-4655-AC3B-8BEA7C979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C1CF-7421-4F84-9241-C581AF962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B616-F98E-4057-9066-B05A2B2BD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93" name="未知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7305480" y="63723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7296120" y="634392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223120" y="5678640"/>
              <a:ext cx="482760" cy="11764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7807320" y="5640480"/>
              <a:ext cx="49824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461000" y="5869080"/>
              <a:ext cx="43668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7178400" y="5888160"/>
              <a:ext cx="33840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6813360" y="6248520"/>
              <a:ext cx="26532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6508800" y="6382080"/>
              <a:ext cx="263520" cy="47592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6207120" y="6410520"/>
              <a:ext cx="376200" cy="44748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5832360" y="6486840"/>
              <a:ext cx="311040" cy="37116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4832280" y="6696360"/>
              <a:ext cx="14112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4E97-E380-498D-A69F-41CF07127C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50" name="未知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7305480" y="63723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7296120" y="634392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8223120" y="5678640"/>
              <a:ext cx="482760" cy="11764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7807320" y="5640480"/>
              <a:ext cx="49824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7461000" y="5869080"/>
              <a:ext cx="43668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7178400" y="5888160"/>
              <a:ext cx="33840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6813360" y="6248520"/>
              <a:ext cx="26532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6508800" y="6382080"/>
              <a:ext cx="263520" cy="47592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6207120" y="6410520"/>
              <a:ext cx="376200" cy="44748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5832360" y="6486840"/>
              <a:ext cx="311040" cy="37116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4832280" y="6696360"/>
              <a:ext cx="14112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2DE6-C4C2-4871-B932-26DC26D797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06" name="未知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125A-F549-4C28-8B52-068AFB59A8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6" name="未知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5070-4710-4629-B576-227937723A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欢迎您参加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国家普通话水平测试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819640" y="6524280"/>
            <a:ext cx="7308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二、核对信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820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仔细核对您的个人信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信息无误，单击“确认”按钮继续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信息有误，请单击“返回”按钮重新登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再次登录后信息仍然有误，请告知考务人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324000" y="47628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二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核对信息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769440" cy="4802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核对信息后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系统会弹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“等待考试指令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字样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此时，请您稍加等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360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Arial"/>
              </a:rPr>
              <a:t>等待考试指令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24000" y="3284280"/>
            <a:ext cx="7164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85080" cy="4762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三、试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在提示语结束并听到“嘟”的一声后，用正常说话的音量朗读主屏中的个人测试信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系统会自动调节，以适应您的音量，您不用作任何操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374508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三、试音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330960" cy="47480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试音结束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系统会弹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“等待考试指令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字样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此时，请您稍加等待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3382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Arial"/>
              </a:rPr>
              <a:t>等待考试指令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195640" y="2997360"/>
            <a:ext cx="7272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476360" y="1711440"/>
            <a:ext cx="6405480" cy="45561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360" y="477720"/>
            <a:ext cx="46195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四、  开始考试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普通话水平测试共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项题目，系统会依次显示各项内容，您只需根据屏幕显示的试题内容进行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每项试题前都有一段语音提示，请在提示语结束并听到“嘟”的一声后，再开始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40431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考试时…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录音过程中，应做到吐字清晰，语速适中，音量同试音时保持大体一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录音过程中，请注意主屏下方的时间提示，确保在规定的时间内完成每项考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29840" y="907560"/>
            <a:ext cx="8713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计算机辅助普通话水平测试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应 试 指 南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上海市语言文字水平测试中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357120"/>
            <a:ext cx="4186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考试时…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规定时间结束，系统会自动进入下一项试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某项试题时间有余，单击屏幕右下角的“下一题”按钮，可进入下一项试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项  读单音节字词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190600"/>
            <a:ext cx="82296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在提示语结束并听到“嘟”的一声后，再开始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该项试题时间有余，单击屏幕右下角的“下一题”按钮，可进入下一项试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14440" y="328680"/>
            <a:ext cx="7981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项  读多音节词语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在提示语结束并听到“嘟”的一声后，再开始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如该项试题时间有余，单击屏幕右下角的“下一题”按钮，可进入下一项试题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74160" cy="68072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项  朗读短文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7040" y="1991880"/>
            <a:ext cx="7929720" cy="32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在提示语结束并听到“嘟”的一声后，再开始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该项试题时间有余，单击屏幕右下角的“下一题”按钮，可进入下一项试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项  命题说话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在提示语结束并听到“嘟”的一声后，再开始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录音开始时，请读出所选话题名称。如：我说的话题是“我尊敬的人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题必须说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分钟（请按主屏下方的时间提示把握时间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4537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五、结束考试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281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说话结束后，系统会弹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“恭喜您考试成功，请摘下耳机，轻轻离开考场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字样，表示考试已结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此时您不用进行任何操作，即可离开试场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一） 测 前 准 备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808668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意验证《准考证》信息是否有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《准考证》应贴上规范的证件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参加测试必须携带《身份证》和《准考证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《准考证》规定的时间准时参加测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360972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Arial"/>
              </a:rPr>
              <a:t>考试结束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851280" y="3212640"/>
            <a:ext cx="7128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480000" cy="4860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33829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ff99"/>
                </a:solidFill>
                <a:latin typeface="黑体"/>
                <a:ea typeface="黑体"/>
              </a:rPr>
              <a:t>特别提示：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2273400"/>
            <a:ext cx="822960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考试过程中，考生不要说试卷以外的任何内容，以免影响考试成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如有疑问，请举手示意，工作人员会及时前来解答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24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下面，将所有测试界面连续演示一遍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769240" y="6441840"/>
            <a:ext cx="1238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5640" bIns="356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8000" cy="6899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二）测试流程简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77979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报到室→准备室→测试室→离开考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8000" cy="6897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计算机辅助测试的几个</a:t>
            </a:r>
            <a:br>
              <a:rPr sz="5400"/>
            </a:b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注  意  事  项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819640" y="6092640"/>
            <a:ext cx="730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6840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  <a:ea typeface="楷体_GB2312"/>
              </a:rPr>
              <a:t>：我有多少时间准备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6776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Verdana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计算机测试同人工测试一样，会安排</a:t>
            </a:r>
            <a:r>
              <a:rPr b="1" lang="en-US" sz="3600" spc="-1" strike="noStrike">
                <a:solidFill>
                  <a:srgbClr val="eaeaea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分钟左右时间让考生在准备室作测前准备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939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为何“等待考试指令”有时时间较长？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所有的考试机是连接在同一个测试平台上的，当所有考生都完成该步骤后，才能进入下一个测试环节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因此，进入测试室后，请您立即登录测试系统，不要延误时间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6624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我用什么样的音量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56908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正常说话的音量</a:t>
            </a:r>
            <a:r>
              <a:rPr b="1" lang="en-US" sz="3200" spc="-1" strike="noStrike">
                <a:solidFill>
                  <a:srgbClr val="eaeaea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一般两、三人之间交谈的音量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试音和考试过程音量应一致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提示：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常见问题是说话声音越来越小，嘀嘀咕咕的，像说悄悄话，这样可能会影响录音效果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e855b"/>
                </a:solidFill>
                <a:latin typeface="Arial"/>
                <a:ea typeface="楷体_GB2312"/>
              </a:rPr>
              <a:t>  </a:t>
            </a: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4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什么样的语速合适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0" y="1982880"/>
            <a:ext cx="87487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每题的时间安排都比较宽裕，测试时要做到吐字清晰完整，语速从容稳当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提示：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常见问题是读得太快。一读快，字与字都粘在一起，每一个字都不清晰，都不完整，都容易有缺陷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5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如何避免漏字、漏行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读字、读词两项容易漏字、漏行。测试时，应看清字、词，从容地朗读，即使有不认识的字，也应揣摩着读一下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尤其在换行时，可稍放慢速度，看清后再读，不要漏行</a:t>
            </a:r>
            <a:r>
              <a:rPr b="1" lang="zh-CN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提示：   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测试时，前三项如果有“漏读”现象是要按字扣分的，所以要注意避免漏读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三）应 试 注 意 事 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882000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测试时做到音量适中，吐字清晰，语速恰当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说同测试无关的内容，有问题请举手示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规定程序操作计算机，不进行违规操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意维护考场秩序，杜绝作弊行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6408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6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发现读错能重读吗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820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第一项和第二项如果有个别字词读错后重复读一遍，计算机系统会自动进行识别，不会因为一个字的重读而影响整体评分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但不要每个字、词都重复读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提示：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考试时沉着冷静，尽量避免错读。</a:t>
            </a:r>
            <a:r>
              <a:rPr b="0" lang="en-US" sz="3600" spc="-1" strike="noStrike">
                <a:solidFill>
                  <a:srgbClr val="5e855b"/>
                </a:solidFill>
                <a:latin typeface="Verdana"/>
                <a:ea typeface="楷体_GB2312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1453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</a:t>
            </a: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7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缺乏对象感怎么办？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调整心态和测试状态，想象着自己是面对着朋友、同伴在说话</a:t>
            </a:r>
            <a:r>
              <a:rPr b="0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。</a:t>
            </a:r>
            <a:r>
              <a:rPr b="0" lang="en-US" sz="5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5191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8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怎样把握时间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  <a:ea typeface="楷体_GB2312"/>
              </a:rPr>
              <a:t>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67564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每道题目的下方都有时间滚动条，你能清晰地了解每题的用时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前三项的时间很充裕，每项读完通常都会有时间多余，可以点击右下方的“下一题”按钮，系统便会进入下一题测试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说话项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也要注意时间滚动条，因为这一项一定要说满三分钟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202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9</a:t>
            </a:r>
            <a:r>
              <a:rPr b="0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、说话项能背稿子吗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4872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说话的</a:t>
            </a: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个题目应事先作充分准备，考试时应按题目要求讲述。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说话项由测试员根据录音评判，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如有背稿子、离题、不断重复、缺时等现象，都会被扣分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0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周围噪音会影响我的成绩吗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8893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e855b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不会！</a:t>
            </a:r>
            <a:r>
              <a:rPr b="1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各个机位有一定的距离</a:t>
            </a:r>
            <a:r>
              <a:rPr b="1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为保证录音效果，测试选用的话筒能屏蔽别处的声音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提示：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专注于自己的考试，不要刻意去听别人的声音，以免影响自己的发挥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52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1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考场上遇到问题怎么办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62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e855b"/>
                </a:solidFill>
                <a:latin typeface="Verdan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测试前应尽量解决所有操作上的疑问，测试时不要说同测试内容无关的话。如遇问题，应举手示意，由考务人员前来处理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2</a:t>
            </a:r>
            <a:r>
              <a:rPr b="1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测试用计算机可以任意操作吗？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测试时，应按规定程序操作计算机。不要随意操作计算机，不要按动同测试操作无关的其它按钮，也不要拉扯各种连接线，以防出现影响录音的情况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3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考试后《准考证》要上交吗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48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录入准考证号并核对个人信息后，请将《准考证》置于靠走道的考试桌桌上角，以便考务人员收取（《准考证》上的照片要用来制作证书）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9144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祝您顺利通过普通话水平测试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四）应  试  实  测  程  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由考务人员引导进入计算机测试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编号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就座后戴上耳机（麦克风戴在左耳），并将话筒置于口腔前方偏下位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点击“下一步”按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进入机测程序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178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登录准备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616360" cy="4176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一、考生登录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输入您的准考证号的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位数字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单击“进入”按钮继续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果输入有误，单击“修改”按钮重新输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80880" y="457200"/>
            <a:ext cx="685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、考生登录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193080" cy="4649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08:27:14Z</dcterms:created>
  <dc:creator>TingSHINN</dc:creator>
  <dc:description/>
  <dc:language>en-US</dc:language>
  <cp:lastModifiedBy>hp</cp:lastModifiedBy>
  <cp:lastPrinted>1899-12-30T00:00:00Z</cp:lastPrinted>
  <dcterms:modified xsi:type="dcterms:W3CDTF">2009-04-10T04:21:33Z</dcterms:modified>
  <cp:revision>88</cp:revision>
  <dc:subject/>
  <dc:title>PowerPoint 演示文稿</dc:title>
</cp:coreProperties>
</file>